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9315-EA1B-47F5-8920-27854D6E12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New Government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….what to do, what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th wanted slaves to co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mean south had more people in their th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-Fifths Compromis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of every 5 slaves count as a person for representation and tax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some what happy…see what happens when you work toget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s with Trade…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 in the North wanted congress to regulate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in the South did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red losing money/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regulations until 18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decided to tax im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ulate interstate and foreign 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a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START OVER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eration of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President ~ enforce laws (helped by VP &amp; assistants) 15 executive depts.- leaders make up  cabin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Congress ~ make laws,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100 me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435 members (present day #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All courts ~ interpret the laws; Supreme Court (9 justices), 12 appeal courts/9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cts/ few “special cour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Pres by not giving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ck new/get rid of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reject treaties (need 2/3 vote to pa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ject presidential appoint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 impeach pres, then Senate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Judicial by creating/abolishing lower cou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each federal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 pardon convicts/appoint jud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slative: veto (not sign) a b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o can be overridden by 2/3 vote in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e laws unconstitutional, then void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icial Review declare laws/practices un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&amp;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on the pp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oral college (elects p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ges appointed/senators (used to be appoin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: 2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: 6y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: 4yr (2 terms in a life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me Court: life or impeac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it…No, we don’t….Lets tal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is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 trade/strong gov’t/help nations $ pr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eralis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 new con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t it didn’t protect fundament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First…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ticles of the Con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8y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more power to states then central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fying the Constitu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of 13 states needed to approve for the new gov’t to take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s be Flexible!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icles were to rigid, no way to change with the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ONE NEEDED TO BE FLEXI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 can be changed (amended) in 4 way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 Proposal by congress (2/3 vote both ho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ed/accepted by ¾ vote of state legisl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 2/3 vote both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ratification ¾ Const Convention in ¾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&amp; 4 never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-Feds wanted more rights for the people protected sooooo……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ll of Rights: (1st 10 amendmen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to get anti-federalist to approve the new Con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ricts const, and grants individual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ill of Ri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freedom of religion, press, 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right to bare a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: no housing sold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: no illegal search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iz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: right no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iminate one self/ no double jeopar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: Right to a speedy &amp; fair tri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: Trial by a jury of your pe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: No Cruel or unusual punish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: Just b/c its not stated doesn’t mean it doesn’t exist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: Everything in the Constitution is up to the states to interpr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!!!!!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get ready to do a cheat sheet and have test =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u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b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gov’t couldn’t collect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no way to get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couldn’t pay back $ lent for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Owed $ to: oth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ries/priva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ritorial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1 would give Amer a break over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other nations gave amer nonsense over land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tates were fighting each other over boundaries &amp; $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OMPLISH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pt nation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d the Treaty of Paris 17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ed the Amer Re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d 2 la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-Ordinance of 1785: sale of public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Northwest Ordinance: made a plan of how to govern new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ll me….wait don’t; nah go ahea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pl liked not being told what to do, but wanted someone to help  run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ed a stronger gov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couldn’t make payments on land; were losing farms to the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 off his head!!! (not real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y’s Rebel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niel Shay (former militia leader) lead a group of angry farmers who lost their farms in Mass in 178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easily ended, but opened the doors for the discussion of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for stronger central gov’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al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t to REVISE the Artic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ce Hall in Philly, 17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of 13: sent delegates (RI did not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 ppl (aka: founding fath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 lawyers/1/2 famers-merch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rge Washington president of the conven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Madison: Secre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women, Native Americans, or African-Americ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way! No, MY way! Hey let’s COMPROMISE!!! =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Jersey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tates have equal rep in gov’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ginia Pla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at Compromi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de gov’t into 2 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: upper house: senate ~ 2 reps per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: lower house: house of representatives ~ based on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make up con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84B4-D6CD-42DB-9C58-C0C6F903D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BCA-A367-45B2-95F5-ABC6CDC0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E21B-EAC9-4E54-A00F-A7DE87A10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8AF0-D8C7-4479-A09E-165BCC59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052F-3B82-4E88-9E99-30E361EF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E9FB-DF43-4C85-9862-86BC606C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F6A-A0E8-45D3-A169-DCFA86F3D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7CF-23EB-49A3-ADA3-F2037BFF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D05D-D85C-4DB3-BB54-3F28E860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5100-025C-4219-ABD2-9253B5F1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7602-9DFA-40B3-B303-DA8683E3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C06-1736-47C3-A4BF-807CACAC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7337-7C0F-4255-8083-5BFB58435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A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ew</a:t>
            </a: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G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o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v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r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m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e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n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t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cc0000"/>
                </a:solidFill>
                <a:latin typeface="Kristen ITC"/>
              </a:rPr>
              <a:t>!</a:t>
            </a:r>
            <a:r>
              <a:rPr b="0" lang="en-US" sz="4400" spc="-1" strike="noStrike">
                <a:solidFill>
                  <a:srgbClr val="3333ff"/>
                </a:solidFill>
                <a:latin typeface="Kristen ITC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First-American-Flag-by-Betsy-Ross"/>
          <p:cNvPicPr/>
          <p:nvPr/>
        </p:nvPicPr>
        <p:blipFill>
          <a:blip r:embed="rId1"/>
          <a:stretch/>
        </p:blipFill>
        <p:spPr>
          <a:xfrm>
            <a:off x="1600200" y="2514600"/>
            <a:ext cx="6095880" cy="365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Slaves….what to do, what to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Harrington"/>
              </a:rPr>
              <a:t>South wanted slaves to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Harrington"/>
              </a:rPr>
              <a:t>Nor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Harrington"/>
              </a:rPr>
              <a:t>Would mean south had more people in their the 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Harrington"/>
              </a:rPr>
              <a:t>Three-Fifths Compromise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3 of every 5 slaves count as a person for representation and tax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Harrington"/>
              </a:rPr>
              <a:t>Everyone some what happy…see what happens when you work togethe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cc"/>
                </a:solidFill>
                <a:latin typeface="Kristen ITC"/>
              </a:rPr>
              <a:t>Issues with Trade…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Ppl  in the North wanted congress to regulat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armers in the South did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feared losing money/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no regulations until 18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Congress decided to tax im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Kristen ITC"/>
              </a:rPr>
              <a:t>regulate interstate and foreig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Goudy Old Style"/>
              </a:rPr>
              <a:t>Preambl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preamble1"/>
          <p:cNvPicPr/>
          <p:nvPr/>
        </p:nvPicPr>
        <p:blipFill>
          <a:blip r:embed="rId1"/>
          <a:stretch/>
        </p:blipFill>
        <p:spPr>
          <a:xfrm>
            <a:off x="2590920" y="1162080"/>
            <a:ext cx="4559040" cy="5695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LETS START OVER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Seperation of Po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Execu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President ~ enforce laws (helped by VP &amp; assistants) 15 executive depts.- leaders make up  cabin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gislative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Congress ~ make laws, 2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nate 100 me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HoR 435 members (present day #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Judicial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: All courts ~ interpret the laws; Supreme Court (9 justices), 12 appeal courts/9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stricts/ few “special cou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9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2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separationofpowers"/>
          <p:cNvPicPr/>
          <p:nvPr/>
        </p:nvPicPr>
        <p:blipFill>
          <a:blip r:embed="rId1"/>
          <a:stretch/>
        </p:blipFill>
        <p:spPr>
          <a:xfrm>
            <a:off x="0" y="304920"/>
            <a:ext cx="8686800" cy="575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Legisla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Pres by not giving $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block new/get rid of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Senate reject treaties (need 2/3 vote to p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reject presidential appoin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HoR impeach pres, then Senate 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Check Judicial by creating/abolishing lower cou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arrington"/>
              </a:rPr>
              <a:t>impeach federal jud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9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Executi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Judicial: pardon convicts/appoint judges</a:t>
            </a: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Legislative: veto (not sign) a 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veto can be overridden by 2/3 vote in both ho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oudy Old Style"/>
              </a:rPr>
              <a:t>Judic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declare laws unconstitutional, then void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oudy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oudy Old Style"/>
              </a:rPr>
              <a:t>Judicial Review declare laws/practices un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1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hksBalnces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Checks &amp; Bala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avie"/>
              </a:rPr>
              <a:t>Checks on the pp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Electoral college (elects p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Judges appointed/senators (used to be appoin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HoR: 2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enate: 6y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Pres: 4yr (2 terms in a life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Supreme Court: life or impeac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6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2" dur="2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8" dur="2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Kristen ITC"/>
              </a:rPr>
              <a:t>We want it…No, we don’t….Lets tal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cc"/>
                </a:solidFill>
                <a:latin typeface="Kristen ITC"/>
              </a:rPr>
              <a:t>Federalis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supported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ff66cc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Kristen ITC"/>
              </a:rPr>
              <a:t>reg trade/strong gov’t/help nations $ pro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cc00"/>
                </a:solidFill>
                <a:latin typeface="Kristen ITC"/>
              </a:rPr>
              <a:t>Anti-Federalists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anti new con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100000"/>
              </a:lnSpc>
              <a:spcBef>
                <a:spcPts val="901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cc00"/>
                </a:solidFill>
                <a:latin typeface="Kristen ITC"/>
              </a:rPr>
              <a:t>felt it didn’t protect fundamental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99ff"/>
                </a:solidFill>
                <a:latin typeface="Curlz MT"/>
              </a:rPr>
              <a:t>But First…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The Articles of the Confe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Kristen ITC"/>
              </a:rPr>
              <a:t>Last 8y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9999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Kristen ITC"/>
              </a:rPr>
              <a:t>Gave more power to states then central gov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rticlesofconfederation"/>
          <p:cNvPicPr/>
          <p:nvPr/>
        </p:nvPicPr>
        <p:blipFill>
          <a:blip r:embed="rId1"/>
          <a:stretch/>
        </p:blipFill>
        <p:spPr>
          <a:xfrm>
            <a:off x="5943600" y="3200400"/>
            <a:ext cx="2419200" cy="3657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image001"/>
          <p:cNvPicPr/>
          <p:nvPr/>
        </p:nvPicPr>
        <p:blipFill>
          <a:blip r:embed="rId2"/>
          <a:stretch/>
        </p:blipFill>
        <p:spPr>
          <a:xfrm>
            <a:off x="380880" y="3124080"/>
            <a:ext cx="5353200" cy="3394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Ratifying the Constitut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oudy Old Style"/>
              </a:rPr>
              <a:t>9 of 13 states needed to approve for the new gov’t to tak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Harrington"/>
              </a:rPr>
              <a:t>Lets be Flexible!!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Harrington"/>
              </a:rPr>
              <a:t>Articles were to rigid, no way to change with the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cc00cc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Harrington"/>
              </a:rPr>
              <a:t>NEW ONE NEEDED TO BE FLEXIB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66cc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cc"/>
                </a:solidFill>
                <a:latin typeface="Harrington"/>
              </a:rPr>
              <a:t>Constitution can be changed (amended) in 4 w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1- Proposal by congress (2/3 vote both hou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009999"/>
                </a:solidFill>
                <a:latin typeface="Harrington"/>
              </a:rPr>
              <a:t>~ratified/accepted by ¾ vote of state legisl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2- 2/3 vote both ho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   </a:t>
            </a:r>
            <a:r>
              <a:rPr b="1" lang="en-US" sz="2800" spc="-1" strike="noStrike">
                <a:solidFill>
                  <a:srgbClr val="99cc00"/>
                </a:solidFill>
                <a:latin typeface="Harrington"/>
              </a:rPr>
              <a:t>~ratification ¾ Const Convention in ¾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Harrington"/>
              </a:rPr>
              <a:t>3 &amp; 4 never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gp"/>
          <p:cNvPicPr/>
          <p:nvPr/>
        </p:nvPicPr>
        <p:blipFill>
          <a:blip r:embed="rId1"/>
          <a:stretch/>
        </p:blipFill>
        <p:spPr>
          <a:xfrm>
            <a:off x="0" y="0"/>
            <a:ext cx="1752480" cy="15318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gp"/>
          <p:cNvPicPr/>
          <p:nvPr/>
        </p:nvPicPr>
        <p:blipFill>
          <a:blip r:embed="rId2"/>
          <a:stretch/>
        </p:blipFill>
        <p:spPr>
          <a:xfrm>
            <a:off x="7086600" y="0"/>
            <a:ext cx="1752480" cy="153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4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4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9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nding the Constit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rocess_amending"/>
          <p:cNvPicPr/>
          <p:nvPr/>
        </p:nvPicPr>
        <p:blipFill>
          <a:blip r:embed="rId1"/>
          <a:stretch/>
        </p:blipFill>
        <p:spPr>
          <a:xfrm>
            <a:off x="685800" y="13716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Anti-Feds wanted more rights for the people protected sooooo……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Harringt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Harrington"/>
              </a:rPr>
              <a:t>Bill of Rights: (1st 10 amendm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created to get anti-federalist to approve the new Con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Harringt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Harrington"/>
              </a:rPr>
              <a:t>restricts const, and grants individual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tbor-prt"/>
          <p:cNvPicPr/>
          <p:nvPr/>
        </p:nvPicPr>
        <p:blipFill>
          <a:blip r:embed="rId1"/>
          <a:stretch/>
        </p:blipFill>
        <p:spPr>
          <a:xfrm>
            <a:off x="1219320" y="3886200"/>
            <a:ext cx="6172200" cy="2971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Ravie"/>
              </a:rPr>
              <a:t>The Bill of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1: freedom of religion, press, &amp; spee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2: right to bare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3: no housing sold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4: no illegal search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seiz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5: right no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    </a:t>
            </a:r>
            <a:r>
              <a:rPr b="0" lang="en-US" sz="2400" spc="-1" strike="noStrike">
                <a:solidFill>
                  <a:srgbClr val="ff66cc"/>
                </a:solidFill>
                <a:latin typeface="Ravie"/>
              </a:rPr>
              <a:t>incriminate one self/ no double jeopard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0" y="1371600"/>
            <a:ext cx="4038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Ravie"/>
              </a:rPr>
              <a:t>6: Right to a speedy &amp; fair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Ravie"/>
              </a:rPr>
              <a:t>7: Trial by a jury of you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8: No Cruel or unusual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Ravie"/>
              </a:rPr>
              <a:t>punis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Ravie"/>
              </a:rPr>
              <a:t>9: Just b/c its not stated doesn’t mean it doesn’t exist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Ravie"/>
              </a:rPr>
              <a:t>10: Everything in the Constitution is up to the states to interpr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1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99"/>
                </a:solidFill>
                <a:latin typeface="Kristen ITC"/>
              </a:rPr>
              <a:t>THE END!!!!!!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Harrington"/>
              </a:rPr>
              <a:t>Now get ready to do a cheat sheet and have test =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 u="sng">
                <a:solidFill>
                  <a:srgbClr val="808080"/>
                </a:solidFill>
                <a:uFillTx/>
                <a:latin typeface="Ravie"/>
              </a:rPr>
              <a:t>Troub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4572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99cc00"/>
                </a:solidFill>
                <a:uFillTx/>
                <a:latin typeface="Arial"/>
              </a:rPr>
              <a:t>Deb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gov’t couldn’t collect t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no way to get $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couldn’t pay back $ lent for the Amer R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~ Owed $ to: other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ountries/private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citiz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3300"/>
                </a:solidFill>
                <a:uFillTx/>
                <a:latin typeface="Arial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~no wanted to trade       with the US b/c Amer didn’t have power to enforce any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236196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cc00cc"/>
                </a:solidFill>
                <a:uFillTx/>
                <a:latin typeface="Arial"/>
              </a:rPr>
              <a:t>Territori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no1 would give Amer a break ov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other nations gave amer nonsense over land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cc66ff"/>
                </a:solidFill>
                <a:latin typeface="Arial"/>
              </a:rPr>
              <a:t>- states were fighting each other over boundaries &amp; 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cc"/>
                </a:solidFill>
                <a:latin typeface="Ravie"/>
              </a:rPr>
              <a:t>ACCOMPLISH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66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ff"/>
                </a:solidFill>
                <a:latin typeface="Ravie"/>
              </a:rPr>
              <a:t>kept nation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ff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Ravie"/>
              </a:rPr>
              <a:t>negotiated the Treaty of Paris 17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99ff"/>
              </a:buClr>
              <a:buFont typeface="Ravi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Ravie"/>
              </a:rPr>
              <a:t>ended the Amer R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Ravie"/>
              </a:rPr>
              <a:t>Created 2 la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99cc00"/>
                </a:solidFill>
                <a:latin typeface="Ravie"/>
              </a:rPr>
              <a:t>1-Ordinance of 1785: sale of public 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Ravie"/>
              </a:rPr>
              <a:t>	</a:t>
            </a:r>
            <a:r>
              <a:rPr b="0" lang="en-US" sz="2800" spc="-1" strike="noStrike">
                <a:solidFill>
                  <a:srgbClr val="33cc33"/>
                </a:solidFill>
                <a:latin typeface="Ravie"/>
              </a:rPr>
              <a:t>2-Northwest Ordinance: made a plan of how to govern new terri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Kristen ITC"/>
              </a:rPr>
              <a:t>Tell me….wait don’t; nah go ahead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Kristen ITC"/>
              </a:rPr>
              <a:t>ppl liked not being told what to do, but wanted someone to help  run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Kristen ITC"/>
              </a:rPr>
              <a:t>wanted a stronger gov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cc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Kristen ITC"/>
              </a:rPr>
              <a:t>farmers couldn’t make payments on land; were losing farms to the b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the_week_14157_27"/>
          <p:cNvPicPr/>
          <p:nvPr/>
        </p:nvPicPr>
        <p:blipFill>
          <a:blip r:embed="rId1"/>
          <a:stretch/>
        </p:blipFill>
        <p:spPr>
          <a:xfrm>
            <a:off x="5638680" y="2514600"/>
            <a:ext cx="3267360" cy="244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cc"/>
                </a:solidFill>
                <a:latin typeface="Goudy Old Style"/>
              </a:rPr>
              <a:t>Take off his head!!! </a:t>
            </a:r>
            <a:r>
              <a:rPr b="0" lang="en-US" sz="3600" spc="-1" strike="noStrike">
                <a:solidFill>
                  <a:srgbClr val="cc00cc"/>
                </a:solidFill>
                <a:latin typeface="Goudy Old Style"/>
              </a:rPr>
              <a:t>(not really)</a:t>
            </a:r>
            <a:br>
              <a:rPr sz="3600"/>
            </a:br>
            <a:r>
              <a:rPr b="0" lang="en-US" sz="6000" spc="-1" strike="noStrike">
                <a:solidFill>
                  <a:srgbClr val="ff3300"/>
                </a:solidFill>
                <a:latin typeface="Chiller"/>
              </a:rPr>
              <a:t>Shay’s Rebell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66cc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cc"/>
                </a:solidFill>
                <a:latin typeface="Goudy Old Style"/>
              </a:rPr>
              <a:t>Daniel Shay (former militia leader) lead a group of angry farmers who lost their farms in Mass in 178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Goudy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It was easily ended, but opened the doors for the discussion of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Goudy Old Style"/>
              </a:rPr>
              <a:t>need for stronger central gov’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asset_upload_file867_11926"/>
          <p:cNvPicPr/>
          <p:nvPr/>
        </p:nvPicPr>
        <p:blipFill>
          <a:blip r:embed="rId1"/>
          <a:stretch/>
        </p:blipFill>
        <p:spPr>
          <a:xfrm>
            <a:off x="5638680" y="365760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99ff"/>
                </a:solidFill>
                <a:latin typeface="comic"/>
              </a:rPr>
              <a:t>Constitutional Con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Meant to </a:t>
            </a: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Kristen ITC"/>
              </a:rPr>
              <a:t>REVISE</a:t>
            </a: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 the 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Independence Hall in Philly, 17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12 of 13: sent delegates (RI did no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55 ppl (aka: founding fa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cc33"/>
              </a:buClr>
              <a:buFont typeface="Kristen IT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Kristen ITC"/>
              </a:rPr>
              <a:t>1/2 lawyers/1/2 famers-merch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cc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cc"/>
                </a:solidFill>
                <a:latin typeface="Kristen ITC"/>
              </a:rPr>
              <a:t>George Washington president of the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cc33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Kristen ITC"/>
              </a:rPr>
              <a:t>James Madison: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Kristen ITC"/>
              </a:rPr>
              <a:t>no women, Native Americans, or African-Americ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ConstitutionalConvention1787"/>
          <p:cNvPicPr/>
          <p:nvPr/>
        </p:nvPicPr>
        <p:blipFill>
          <a:blip r:embed="rId1"/>
          <a:stretch/>
        </p:blipFill>
        <p:spPr>
          <a:xfrm>
            <a:off x="609480" y="76212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Kristen ITC"/>
              </a:rPr>
              <a:t>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Kristen ITC"/>
              </a:rPr>
              <a:t>No, MY way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Hey let’s </a:t>
            </a:r>
            <a:r>
              <a:rPr b="1" i="1" lang="en-US" sz="4000" spc="-1" strike="noStrike">
                <a:solidFill>
                  <a:srgbClr val="ff66cc"/>
                </a:solidFill>
                <a:latin typeface="Kristen ITC"/>
              </a:rPr>
              <a:t>COMPROMISE!!!</a:t>
            </a:r>
            <a:r>
              <a:rPr b="1" i="1" lang="en-US" sz="4000" spc="-1" strike="noStrike">
                <a:solidFill>
                  <a:srgbClr val="000000"/>
                </a:solidFill>
                <a:latin typeface="Kristen ITC"/>
              </a:rPr>
              <a:t> =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New Jersey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 states have equal rep in gov’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Virginia Pla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rep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Great Compromis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divide gov’t into 2 ho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1: upper house: senate ~ 2 reps per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66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cc"/>
                </a:solidFill>
                <a:latin typeface="Arial"/>
              </a:rPr>
              <a:t>2: lower house: house of representatives ~ based on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66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cc"/>
                </a:solidFill>
                <a:latin typeface="Arial"/>
              </a:rPr>
              <a:t>these make up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9T14:40:22Z</dcterms:created>
  <dc:creator>agrabianowski</dc:creator>
  <dc:description/>
  <dc:language>en-US</dc:language>
  <cp:lastModifiedBy>RomaK</cp:lastModifiedBy>
  <dcterms:modified xsi:type="dcterms:W3CDTF">2015-09-02T09:50:53Z</dcterms:modified>
  <cp:revision>42</cp:revision>
  <dc:subject/>
  <dc:title>A New Government!!!!</dc:title>
</cp:coreProperties>
</file>